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E56-0F25-413D-BDE6-DDCD3564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954-7A77-41A1-8EA2-7D687926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F891-36D4-4F89-B6A1-CC193996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80E-81F4-4CB1-B5AA-C1FF0C9E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972A-7E56-4DC5-BD07-8130396C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5DF2-D1D8-487D-ACCF-6EFA1560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EB29-C38A-40AC-8D13-9DBE91EE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B71D-3635-4C6D-8CA1-664D2800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E231-165E-4450-9745-C5B8FBDD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8C9F-74C6-4955-A0E8-09EBBFE3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3521-0381-48A1-8DB1-12805228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D97-EBA8-42BC-8C8A-E3292E29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02C1-4690-40D0-9F29-9AB5B970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AF1A-03E9-4C2B-95B2-A4D2437B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E80C-8AB6-4C76-A9B3-B3907076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D9E6-293F-4BC7-B0EE-4504990D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0A75-F17A-48F6-8C3A-B3F6F7A4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09CCD-DC75-4C7D-B068-455B19B1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FDBE4-314E-4261-A6D0-E1BF231E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F0677-DA29-462F-9E64-6F38D8A4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09359-2CDE-4C1A-A6B7-D7B30135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D5394-89EC-4F55-86B2-C44BAFD2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A33E-C42F-43A6-8DA7-049E879A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5617A-61B3-488A-B03A-CA623FFC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2BD58-75A9-42E9-AA9A-0A1B7D0C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A2B83-2082-4871-965A-20D0CE1F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061FA-AE28-4D5D-9FD5-8F1E762D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FAA18-6D6F-44E0-BDDF-4B48543B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603DB-4AD8-4EF4-9EAC-595581A7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08219-EBBC-462C-9ACE-135BF62A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2836C-6DCD-4A8C-842B-EF8CDA29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6D679-8CD5-4753-9DED-6515C883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A8EC4-0B0F-423B-A8F6-0263260A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E038-3C20-4F97-B483-C4760DEA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256C3-BA97-48BF-A0A0-4CFF999E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670C8-E711-4133-AF71-0F0D42D0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81875-5E25-4D06-8D97-6AD978A2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E3166-679F-4447-A4AE-7C58BE7B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5F955-5B63-42D1-97DE-769DB177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0B902-317D-4081-A543-00AAB4B9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43E99-3A37-470A-8FAB-2FB6CA12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D3058-7E5B-4719-B099-428F5711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DA86C-AB0D-480B-BC67-79754AE0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555B9-E726-4C22-83E5-53EF60A1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EEB-FA8D-405C-8175-5805220D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84863-6058-41D8-B3C2-8D38247E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18687-0B8C-4614-9171-493B8DA4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F3678-FF53-474E-BABF-35C23934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EAE4C-269E-43E3-88EF-63152090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25D7C-8E27-45A7-B10A-BD10488B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A697E-3B10-44BF-B96A-500B79A0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B744B-715C-459D-991F-725E4F3E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22931-9F02-4A03-9CA9-C69D66B2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64663-A6AF-49E0-87D5-33FAB00E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18242-7995-4719-8FF0-8E3AE8E5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981-2C10-4316-A827-B3762261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6D925-537E-4C93-8C83-C2CDA4D2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62FC9-BF20-4E5C-A902-0C26EA0A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6EF95-07F8-4BC9-B81B-9721E234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9F287-BC80-4FA6-A9B2-A5C90047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7BD1B-0964-42F9-ADB2-EB8FFE7F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61F6B-62C2-4660-81F4-39359437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91647-8EF9-43DE-999D-79D931B1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EE711-3E25-43B7-9AE9-152230EC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5E1E6-0F4C-4438-BC25-5744F8D1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4D83F-8EF5-4830-A33E-39C840A4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7675-7F0D-4C67-8C19-582E3EEA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EA3F4-5356-4EAA-8737-4B17B3A9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3D146-48AC-4EB6-BBE9-D1789A6C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4C82A-608B-41A9-861C-855CE544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F2074-ED1A-4D2C-A4E8-77F1028F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EC935-5397-4A23-B9C1-B052411C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034AB-A502-4DD3-A985-B64F3463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53714-67F7-4F1F-B0C7-EC6B630A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944E7-6C47-4D86-94FB-D06884E3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DA703-B6F8-4710-AD8A-55C1AC43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C86DF-5C1B-4469-B86D-0061FBF2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1D8-65AF-414D-A067-691615A6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7EF06-2970-4A8C-BE77-673A12A2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35653-E72B-46A7-AC2A-80169C03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B91D5-9E15-4890-81E5-4D30C533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56FFA-D589-439C-A27B-91C11577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49688-4838-44A8-9414-15B83241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F47-5B2C-4F19-861F-DBE7C525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48F5-A248-4D06-9994-618CAC7D9B8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2C32-D8E6-451A-A1C2-9031B885264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7579-84A0-48D8-BF07-0EE505297C1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56D1-8BD6-4EDF-AC13-CF03987AE68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491D-2FF4-4D94-95A2-E4CA7E5B086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68ED-6114-4815-8036-A271922636B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D138-CFDE-470D-B2CD-69902D72E81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Reproductive System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3257640" cy="2666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men also contains protective seminal flui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duced by seminal vesicles, prostate and bulboureth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ains nutrients to both sustain the sperm, and protect it from the hostile, acidic environment of female reproductive tra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emale Reproductive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imary functions are to produce ova (eggs) and to nourish a developing embry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ever,  can only happen after puber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varies respond to FSH to produce estrog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ey in production of the ova each mon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977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gg Develop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066680"/>
            <a:ext cx="7499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ach ovary contains  thousands of immature eggs surrounded by primary follicle (cluster of small cell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very 28 days, FSH stimulates the growth of one, and will eventually go through meios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t the end, only one daughter cell will be via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 three, called polar bodies, are much smaller, and will disinteg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7572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eggs will be produced for 30-40 yea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inues until menopause (by definition, after a woman had gone 12 months without a period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89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gg Rele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ture egg is released from follicle and ovary in process called ovul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sses into one of the two Fallopian tub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s is when a female can become pregna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ves through tube, shuttled by cil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aches uterus after a few days, where a fertilized egg can impl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no egg is fertilized, menstration can beg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7361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exual Rep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 we all know, humans reproduce sexuall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s implies two different sexes, with unique structures and hormon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ever, both sexes appear the same for the first six weeks as embry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2438280" y="609480"/>
            <a:ext cx="48006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434960" y="609480"/>
            <a:ext cx="7499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uring week 7, sexual differentiation occu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stes and ovaries develo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stosterone develops the male reproductive organs, estrogen develops female reproductive orga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xt major change is during puber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productive systems become mature and fully function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set of puberty dependant on endocrine sy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434960" y="456840"/>
            <a:ext cx="7499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ypothalamus releases gonadotropin-releasing hormone (GnRH), to pituitary gla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retes follicle-stimulating hormone (FSH) and luteinizing hormone (LH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stimulate development of sexual orga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ale Reproductive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uring puberty,  both FSH and LH stimulate testes to produce testostero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SH and testosterone stimulate sperm produ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production and release of this sperm is the primary purpose of the male reproductive sy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erm are produced in seminiferous tubules in tes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stes will typically drop into the scrotum just before or after birt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scrotum holds the testes away from the body, lowering the temperature a few degrees from the 37° C averag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temperature is important for the development of sper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678168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perm Development / Structu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de during meiosis (hence they are haploid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duced in the millions per d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ce they are made, moved to the epididym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ored he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ves up to vas deferens, which eventually merge with the urethr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oth sperm and semen leave the body he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1:49:09Z</dcterms:created>
  <dc:creator>ED18</dc:creator>
  <dc:description/>
  <dc:language>en-US</dc:language>
  <cp:lastModifiedBy>ED18</cp:lastModifiedBy>
  <dcterms:modified xsi:type="dcterms:W3CDTF">2012-05-28T10:33:47Z</dcterms:modified>
  <cp:revision>5</cp:revision>
  <dc:subject/>
  <dc:title>The Reproductive Systems</dc:title>
</cp:coreProperties>
</file>